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EBC-FB53-48ED-96AC-238964B7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269-7957-4380-A1F3-004699BD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08B-1947-48FC-A5C7-5F3D3138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EF3-5C57-465F-A818-DB7D7C1F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50F-8CBA-4C22-8101-5DCEE6AF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91E-01F7-4FFA-B27F-926C3D1C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541-E7ED-4A0D-A878-9919AE61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A71-42ED-4BEA-9158-D67ABFBA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B79-A348-48DF-A632-1E4FDBCE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3C3-9633-4B25-BABB-0964EA33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40A-A993-47DE-9D0B-37D63B35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F52-15A3-4062-BDDC-FC36E6A0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E137-8DA9-4691-AEA1-E4C1592DB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hyperlink" Target="http://www.belluccidesign.it/clip_art/hand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hyperlink" Target="http://www.belluccidesign.it/clip_art/hand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belluccidesign.it/clip_art/hand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ry your best to perform as QUICKLY and as ACCURATELY as you can on this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you make an error, a siren will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ill be a total of eight blocks of 96 trials each, which should last around 25 minutes a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press the spacebar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-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ERROR: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Keep in mind th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1600" y="2362320"/>
            <a:ext cx="38088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1219320"/>
            <a:ext cx="380880" cy="30456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6324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ss the “-” or “Ctrl” key to 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752400" cy="156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854840" y="2971800"/>
            <a:ext cx="374760" cy="1654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749160" cy="1562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 rot="1046400">
            <a:off x="7754400" y="866880"/>
            <a:ext cx="685800" cy="6588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124080" y="327672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to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up, press the “-”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4876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bottom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down, press the “Ctrl” 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248520" y="4648320"/>
            <a:ext cx="35712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271600">
            <a:off x="457200" y="2209680"/>
            <a:ext cx="838080" cy="83196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533520" y="449568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89548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543800" y="1752480"/>
            <a:ext cx="533520" cy="152424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219320" y="3123720"/>
            <a:ext cx="761760" cy="175284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ractice Complete: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Keep in mind th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71600" y="2362320"/>
            <a:ext cx="38088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1219320"/>
            <a:ext cx="380880" cy="30456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324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ss the “-” or “Ctrl” key to begin the actual test tria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752400" cy="1568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854840" y="2994120"/>
            <a:ext cx="374760" cy="1654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749160" cy="156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 rot="1046400">
            <a:off x="7754400" y="866880"/>
            <a:ext cx="685800" cy="6588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3124080" y="327672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to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up, press the “-”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876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bottom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down, press the “Ctrl” 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248520" y="4648320"/>
            <a:ext cx="357120" cy="1577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271600">
            <a:off x="457200" y="2209680"/>
            <a:ext cx="838080" cy="83196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33520" y="449568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89548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543800" y="1752480"/>
            <a:ext cx="533520" cy="152424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219320" y="3124080"/>
            <a:ext cx="380880" cy="13716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58200" cy="279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4038480"/>
            <a:ext cx="457200" cy="53352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05920" y="2514600"/>
            <a:ext cx="304560" cy="45720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8534520" y="914400"/>
            <a:ext cx="304560" cy="15238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0" y="4419720"/>
            <a:ext cx="457200" cy="12952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0"/>
            <a:ext cx="5715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out this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use the “-” key at top right of keyboar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1055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“Ctrl” key at bottom left of key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spacebar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57800"/>
            <a:ext cx="1828800" cy="91692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tr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035000" cy="10666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5280" y="3200400"/>
            <a:ext cx="38124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2057400"/>
            <a:ext cx="30492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sponses will be fastest if you rest your left hand on the desk near the left side of the keyboar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88620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est your right hand on the desk near the right side of the key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ter resting your hands comfortably near the left and right sides of the keyboard, press the “Ctrl” key to 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1603800">
            <a:off x="7695720" y="1828440"/>
            <a:ext cx="1200240" cy="115236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271600">
            <a:off x="304560" y="3048120"/>
            <a:ext cx="1038240" cy="10303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458200" cy="2797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0"/>
            <a:ext cx="693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actice using these keys, please use a finger from your RIGHT hand to press the “-” key. Probably your right index finger or right thumb will be most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-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3581280"/>
            <a:ext cx="304920" cy="45720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533800" y="1295280"/>
            <a:ext cx="152280" cy="221004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315200" y="838080"/>
            <a:ext cx="1035000" cy="106704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458200" cy="279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09680" y="457200"/>
            <a:ext cx="716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use a finger from your LEFT hand to press the “Ctrl” key. Probably your left index finger or left thumb will be most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Ctrl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105520"/>
            <a:ext cx="457200" cy="53316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2133720"/>
            <a:ext cx="228600" cy="28954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143000"/>
            <a:ext cx="1828800" cy="91692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tr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ask, you will 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oup of triangles, like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1041480" cy="2184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Ctrl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21932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oup of arrows, like the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477120" y="2362320"/>
            <a:ext cx="495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647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ee stacks of triangles, indicate the LOCATION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iang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mall gray triangle is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ack, you would press the “-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1041120" cy="218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Ctrl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657600"/>
            <a:ext cx="6095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mall gray triangle is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t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tack, you would press the “Ctrl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38880" y="838080"/>
            <a:ext cx="1041480" cy="217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5880" y="851040"/>
            <a:ext cx="1219320" cy="1054080"/>
          </a:xfrm>
          <a:custGeom>
            <a:avLst/>
            <a:gdLst/>
            <a:ahLst/>
            <a:rect l="l" t="t" r="r" b="b"/>
            <a:pathLst>
              <a:path w="768" h="952">
                <a:moveTo>
                  <a:pt x="0" y="904"/>
                </a:moveTo>
                <a:cubicBezTo>
                  <a:pt x="132" y="928"/>
                  <a:pt x="264" y="952"/>
                  <a:pt x="336" y="904"/>
                </a:cubicBezTo>
                <a:cubicBezTo>
                  <a:pt x="408" y="856"/>
                  <a:pt x="392" y="752"/>
                  <a:pt x="432" y="616"/>
                </a:cubicBezTo>
                <a:cubicBezTo>
                  <a:pt x="472" y="480"/>
                  <a:pt x="520" y="176"/>
                  <a:pt x="576" y="88"/>
                </a:cubicBezTo>
                <a:cubicBezTo>
                  <a:pt x="632" y="0"/>
                  <a:pt x="700" y="44"/>
                  <a:pt x="768" y="88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508640"/>
            <a:ext cx="2057400" cy="901440"/>
          </a:xfrm>
          <a:custGeom>
            <a:avLst/>
            <a:gdLst/>
            <a:ahLst/>
            <a:rect l="l" t="t" r="r" b="b"/>
            <a:pathLst>
              <a:path w="1296" h="568">
                <a:moveTo>
                  <a:pt x="1296" y="40"/>
                </a:moveTo>
                <a:cubicBezTo>
                  <a:pt x="1024" y="20"/>
                  <a:pt x="752" y="0"/>
                  <a:pt x="576" y="40"/>
                </a:cubicBezTo>
                <a:cubicBezTo>
                  <a:pt x="400" y="80"/>
                  <a:pt x="336" y="192"/>
                  <a:pt x="240" y="280"/>
                </a:cubicBezTo>
                <a:cubicBezTo>
                  <a:pt x="144" y="368"/>
                  <a:pt x="72" y="468"/>
                  <a:pt x="0" y="568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5562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ee arrows, indicate the DIRECTION in which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ow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iddle arrow points up, you would press the “-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495360" cy="218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Ctrl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36576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iddle arrow points down, you would press the “Ctrl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495360" cy="218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10080" y="1981080"/>
            <a:ext cx="1219320" cy="343080"/>
          </a:xfrm>
          <a:custGeom>
            <a:avLst/>
            <a:gdLst/>
            <a:ahLst/>
            <a:rect l="l" t="t" r="r" b="b"/>
            <a:pathLst>
              <a:path w="768" h="216">
                <a:moveTo>
                  <a:pt x="0" y="192"/>
                </a:moveTo>
                <a:cubicBezTo>
                  <a:pt x="120" y="204"/>
                  <a:pt x="240" y="216"/>
                  <a:pt x="336" y="192"/>
                </a:cubicBezTo>
                <a:cubicBezTo>
                  <a:pt x="432" y="168"/>
                  <a:pt x="504" y="80"/>
                  <a:pt x="576" y="48"/>
                </a:cubicBezTo>
                <a:cubicBezTo>
                  <a:pt x="648" y="16"/>
                  <a:pt x="708" y="8"/>
                  <a:pt x="768" y="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4559400"/>
            <a:ext cx="1600200" cy="88920"/>
          </a:xfrm>
          <a:custGeom>
            <a:avLst/>
            <a:gdLst/>
            <a:ahLst/>
            <a:rect l="l" t="t" r="r" b="b"/>
            <a:pathLst>
              <a:path w="1008" h="56">
                <a:moveTo>
                  <a:pt x="1008" y="8"/>
                </a:moveTo>
                <a:cubicBezTo>
                  <a:pt x="756" y="4"/>
                  <a:pt x="504" y="0"/>
                  <a:pt x="336" y="8"/>
                </a:cubicBezTo>
                <a:cubicBezTo>
                  <a:pt x="168" y="16"/>
                  <a:pt x="84" y="36"/>
                  <a:pt x="0" y="56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indicate the LOCATION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here, beca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 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would press the “-”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29400" y="1066680"/>
            <a:ext cx="495360" cy="2187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-” key to try some practice tria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175248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indicate the DIRECTION wher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row is po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here, beca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row is point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would press the “-”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10411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2:26:06Z</dcterms:created>
  <dc:creator> </dc:creator>
  <dc:description/>
  <dc:language>en-US</dc:language>
  <cp:lastModifiedBy> </cp:lastModifiedBy>
  <dcterms:modified xsi:type="dcterms:W3CDTF">2009-02-23T12:08:25Z</dcterms:modified>
  <cp:revision>99</cp:revision>
  <dc:subject/>
  <dc:title>Slide 1</dc:title>
</cp:coreProperties>
</file>